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6DDB-6BEB-42E5-8E3B-36565F4CE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4D45-E0D3-4D86-A2AD-FBDAF647D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D1D6-C18E-4A46-BD7B-2BC3C9926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493-19B1-4D85-B04C-581AB12D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305-0C28-44CE-82F3-F2C3D3EC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44E-0F33-423F-8F8F-E1AFBD28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8C5-DBB0-4B14-B08C-09BE8E26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4E0-E797-43B8-8C75-2A804814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BFDA-295C-4292-B19A-D225ADBF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E52-6736-4703-A041-0EB6D239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14F-D951-4FAC-92C0-224B693B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BDF1-11AD-40A1-84D4-6DCFB909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547-B02A-4097-97C5-23043531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129B-0ECE-46AB-B06E-3F18D2FA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8FA8-B585-455C-978D-5611A142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2C43-7852-4C7F-8F24-AFA38EB6B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2.wmf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User\Desktop\cute pic\Abstracts\urban collec tive18.jpg"/>
          <p:cNvPicPr/>
          <p:nvPr/>
        </p:nvPicPr>
        <p:blipFill>
          <a:blip r:embed="rId1"/>
          <a:stretch/>
        </p:blipFill>
        <p:spPr>
          <a:xfrm>
            <a:off x="-237960" y="-237960"/>
            <a:ext cx="9619920" cy="7333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0" y="838080"/>
            <a:ext cx="914400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"/>
              </a:rPr>
              <a:t>               </a:t>
            </a:r>
            <a:r>
              <a:rPr b="1" lang="en-US" sz="3600" spc="-1" strike="noStrike">
                <a:solidFill>
                  <a:srgbClr val="ff3300"/>
                </a:solidFill>
                <a:latin typeface="comic"/>
              </a:rPr>
              <a:t>UHL 40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"/>
              </a:rPr>
              <a:t>PROJECT BASED PROPOSAL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5e9"/>
                </a:solidFill>
                <a:latin typeface="comic"/>
              </a:rPr>
              <a:t>TIT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5e9"/>
                </a:solidFill>
                <a:latin typeface="comic"/>
              </a:rPr>
              <a:t>THE IMPACT OF COMMUNICATION BARRIERS IN PROJECT TEAM ON THE PROJECT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9900"/>
                </a:solidFill>
                <a:latin typeface="comic"/>
              </a:rPr>
              <a:t>PRESENTER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9900"/>
                </a:solidFill>
                <a:latin typeface="comic"/>
              </a:rPr>
              <a:t>NURUL ASYIKIN BINTI ZAI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9900"/>
                </a:solidFill>
                <a:latin typeface="comic"/>
              </a:rPr>
              <a:t>PB0807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Cj02975670000[1]"/>
          <p:cNvPicPr/>
          <p:nvPr/>
        </p:nvPicPr>
        <p:blipFill>
          <a:blip r:embed="rId2"/>
          <a:stretch/>
        </p:blipFill>
        <p:spPr>
          <a:xfrm>
            <a:off x="7018200" y="4876920"/>
            <a:ext cx="2125800" cy="1981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MCj02975650000[1]"/>
          <p:cNvPicPr/>
          <p:nvPr/>
        </p:nvPicPr>
        <p:blipFill>
          <a:blip r:embed="rId3"/>
          <a:stretch/>
        </p:blipFill>
        <p:spPr>
          <a:xfrm>
            <a:off x="0" y="487692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4"/>
          <a:stretch/>
        </p:blipFill>
        <p:spPr>
          <a:xfrm>
            <a:off x="1895400" y="-6480"/>
            <a:ext cx="2152800" cy="2225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:\Documents and Settings\User\My Documents\picture\DSC00885.JPG"/>
          <p:cNvPicPr/>
          <p:nvPr/>
        </p:nvPicPr>
        <p:blipFill>
          <a:blip r:embed="rId5"/>
          <a:stretch/>
        </p:blipFill>
        <p:spPr>
          <a:xfrm>
            <a:off x="-85680" y="-6480"/>
            <a:ext cx="2079720" cy="2225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User\Desktop\cute pic\Abstracts\urban collec tive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Documents and Settings\User\Desktop\cute pic\Abstracts\urban collec tive18.jpg"/>
          <p:cNvPicPr/>
          <p:nvPr/>
        </p:nvPicPr>
        <p:blipFill>
          <a:blip r:embed="rId2"/>
          <a:stretch/>
        </p:blipFill>
        <p:spPr>
          <a:xfrm>
            <a:off x="-237960" y="-237960"/>
            <a:ext cx="9619920" cy="7333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MCj02975670000[1]"/>
          <p:cNvPicPr/>
          <p:nvPr/>
        </p:nvPicPr>
        <p:blipFill>
          <a:blip r:embed="rId3"/>
          <a:stretch/>
        </p:blipFill>
        <p:spPr>
          <a:xfrm>
            <a:off x="152280" y="4876920"/>
            <a:ext cx="2125800" cy="1981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0" y="152280"/>
            <a:ext cx="92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INTRODU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457200" y="990720"/>
            <a:ext cx="815328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ommunication is the art of transmitting information, ideas and attitudes from one person to another. Communication is the process of meaningful interaction among human be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7 barriers in communication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- perceptual, physical, emotional, cultural, language, gender, and interpersonal barri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00"/>
                </a:solidFill>
                <a:latin typeface="Comic Sans MS"/>
              </a:rPr>
              <a:t>  </a:t>
            </a:r>
            <a:r>
              <a:rPr b="1" i="1" lang="en-US" sz="20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PROBLEM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A lack of communication in activities especially in project team in achieving project su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User\Desktop\cute pic\Abstracts\urban collec tive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User\Desktop\cute pic\Abstracts\urban collec tive18.jpg"/>
          <p:cNvPicPr/>
          <p:nvPr/>
        </p:nvPicPr>
        <p:blipFill>
          <a:blip r:embed="rId2"/>
          <a:stretch/>
        </p:blipFill>
        <p:spPr>
          <a:xfrm>
            <a:off x="-237960" y="-237960"/>
            <a:ext cx="9619920" cy="733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MCj02975650000[1]"/>
          <p:cNvPicPr/>
          <p:nvPr/>
        </p:nvPicPr>
        <p:blipFill>
          <a:blip r:embed="rId3"/>
          <a:stretch/>
        </p:blipFill>
        <p:spPr>
          <a:xfrm>
            <a:off x="0" y="4876920"/>
            <a:ext cx="2057400" cy="1981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380880" y="60948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RESEARCH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o identify the impact of communication barriers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in project team on the project succe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RESEARCH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- How far communication affect in project.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- What solutions are taken to make sure project 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User\Desktop\cute pic\Abstracts\urban collec tive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User\Desktop\cute pic\Abstracts\urban collec tive18.jpg"/>
          <p:cNvPicPr/>
          <p:nvPr/>
        </p:nvPicPr>
        <p:blipFill>
          <a:blip r:embed="rId2"/>
          <a:stretch/>
        </p:blipFill>
        <p:spPr>
          <a:xfrm>
            <a:off x="-237960" y="-237960"/>
            <a:ext cx="9619920" cy="7333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MCj02975670000[1]"/>
          <p:cNvPicPr/>
          <p:nvPr/>
        </p:nvPicPr>
        <p:blipFill>
          <a:blip r:embed="rId3"/>
          <a:stretch/>
        </p:blipFill>
        <p:spPr>
          <a:xfrm>
            <a:off x="0" y="4876920"/>
            <a:ext cx="2125800" cy="198108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0" y="304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LITERATURE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457200" y="1219320"/>
            <a:ext cx="8153280" cy="70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Comic Sans MS"/>
              </a:rPr>
              <a:t>COMMUN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Communication is a two way process in which there is an exchange and progress of ideas towards a mutually accepted direction goal.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mbed,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Comic Sans MS"/>
              </a:rPr>
              <a:t>PROJECT TE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Project teams are comprised of white-collar professionals who collaborate on an assigned or original project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rzner,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Comic Sans MS"/>
              </a:rPr>
              <a:t>COMMUNICATION BARRI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Barriers of communication are the hindrances or difficulties involved in the process of communication which distort the message from understood by the receiver.                      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Sreenath S,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User\Desktop\cute pic\Abstracts\urban collec tive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Documents and Settings\User\Desktop\cute pic\Abstracts\urban collec tive18.jpg"/>
          <p:cNvPicPr/>
          <p:nvPr/>
        </p:nvPicPr>
        <p:blipFill>
          <a:blip r:embed="rId2"/>
          <a:stretch/>
        </p:blipFill>
        <p:spPr>
          <a:xfrm>
            <a:off x="-237960" y="-237960"/>
            <a:ext cx="9619920" cy="733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MCj02975650000[1]"/>
          <p:cNvPicPr/>
          <p:nvPr/>
        </p:nvPicPr>
        <p:blipFill>
          <a:blip r:embed="rId3"/>
          <a:stretch/>
        </p:blipFill>
        <p:spPr>
          <a:xfrm>
            <a:off x="0" y="4876920"/>
            <a:ext cx="2057400" cy="198108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0" y="304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METHODOLO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609480" y="1523880"/>
            <a:ext cx="777240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- Pembinaan BLT Sdn. Bhd. Company (PB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60 manager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3 expert of project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Survey questionnaire and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User\Desktop\cute pic\Abstracts\urban collec tive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User\Desktop\cute pic\Abstracts\urban collec tive18.jpg"/>
          <p:cNvPicPr/>
          <p:nvPr/>
        </p:nvPicPr>
        <p:blipFill>
          <a:blip r:embed="rId2"/>
          <a:stretch/>
        </p:blipFill>
        <p:spPr>
          <a:xfrm>
            <a:off x="-237960" y="-237960"/>
            <a:ext cx="9619920" cy="733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C:\Documents and Settings\User\Desktop\images (6).jpg"/>
          <p:cNvPicPr/>
          <p:nvPr/>
        </p:nvPicPr>
        <p:blipFill>
          <a:blip r:embed="rId3"/>
          <a:stretch/>
        </p:blipFill>
        <p:spPr>
          <a:xfrm>
            <a:off x="-85680" y="-6480"/>
            <a:ext cx="2689200" cy="207324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0" y="380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CONCLU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Cj02975670000[1]"/>
          <p:cNvPicPr/>
          <p:nvPr/>
        </p:nvPicPr>
        <p:blipFill>
          <a:blip r:embed="rId4"/>
          <a:stretch/>
        </p:blipFill>
        <p:spPr>
          <a:xfrm>
            <a:off x="0" y="4876920"/>
            <a:ext cx="2125800" cy="198108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533520" y="1905120"/>
            <a:ext cx="8076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This study have been able to increased information about communication barri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Manager team and project manager will know about the impact of communication barriers in a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ff3399"/>
                </a:solidFill>
                <a:latin typeface="Comic Sans MS"/>
              </a:rPr>
              <a:t>  </a:t>
            </a:r>
            <a:r>
              <a:rPr b="0" lang="en-MY" sz="2400" spc="-1" strike="noStrike">
                <a:solidFill>
                  <a:srgbClr val="ff3399"/>
                </a:solidFill>
                <a:latin typeface="Comic Sans MS"/>
              </a:rPr>
              <a:t>This study also to increase an information about important of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ff3399"/>
                </a:solidFill>
                <a:latin typeface="Comic Sans MS"/>
              </a:rPr>
              <a:t>So, communication is very important in the success of a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5"/>
          <a:stretch/>
        </p:blipFill>
        <p:spPr>
          <a:xfrm>
            <a:off x="6620040" y="5632560"/>
            <a:ext cx="2536560" cy="1238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6"/>
          <a:stretch/>
        </p:blipFill>
        <p:spPr>
          <a:xfrm>
            <a:off x="4565520" y="5632560"/>
            <a:ext cx="2378160" cy="1238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5:01:44Z</dcterms:created>
  <dc:creator>User</dc:creator>
  <dc:description/>
  <dc:language>en-US</dc:language>
  <cp:lastModifiedBy>Student</cp:lastModifiedBy>
  <dcterms:modified xsi:type="dcterms:W3CDTF">2010-04-07T03:14:36Z</dcterms:modified>
  <cp:revision>74</cp:revision>
  <dc:subject/>
  <dc:title>Slide 1</dc:title>
</cp:coreProperties>
</file>